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4.wmf" ContentType="image/x-wmf"/>
  <Override PartName="/ppt/media/image6.wmf" ContentType="image/x-wmf"/>
  <Override PartName="/ppt/media/image5.wmf" ContentType="image/x-wmf"/>
  <Override PartName="/ppt/media/camera.wav" ContentType="audio/x-wav"/>
  <Override PartName="/ppt/media/gunshot.wav" ContentType="audio/x-wav"/>
  <Override PartName="/ppt/media/laser.wav" ContentType="audio/x-wav"/>
  <Override PartName="/ppt/media/driveby.wav" ContentType="audio/x-wav"/>
  <Override PartName="/ppt/media/chimes.wav" ContentType="audio/x-wav"/>
  <Override PartName="/ppt/media/ricochet.wav" ContentType="audio/x-wav"/>
  <Override PartName="/ppt/media/caralarmoff.wav" ContentType="audio/x-wav"/>
  <Override PartName="/ppt/media/image2.wmf" ContentType="image/x-wmf"/>
  <Override PartName="/ppt/media/projctor.wav" ContentType="audio/x-wav"/>
  <Override PartName="/ppt/media/image1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B25-D664-4564-BB88-F50A7AE0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6A8-21F3-4EB5-80DD-2DF631CB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9D0-73EB-4B41-BDA9-C1C64CDA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538-6FAD-4052-9107-B67C43B4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39D-9B2F-4FF9-A3CB-F10B8246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4CF-9E67-4176-999F-4DDC31AC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FF1-05B0-47F0-BEB4-666AF47B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0E3-F3FB-4E06-9F78-D5F51A2E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6DB-CA42-4380-B02E-D85DA395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572-C524-4452-9409-727C13B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2AE-C27C-4FD4-A050-3FCA523B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67B-5B30-434F-BC3B-1C0D7BC2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EE1A-06C9-49C6-AF9F-26EFF6576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gunshot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caralarmoff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caralarmoff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audio" Target="../media/chimes.wav"/><Relationship Id="rId6" Type="http://schemas.openxmlformats.org/officeDocument/2006/relationships/audio" Target="../media/projctor.wav"/><Relationship Id="rId7" Type="http://schemas.openxmlformats.org/officeDocument/2006/relationships/audio" Target="../media/ricochet.wav"/><Relationship Id="rId8" Type="http://schemas.openxmlformats.org/officeDocument/2006/relationships/audio" Target="../media/laser.wav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a Stem-and-Leaf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Use the stem-and-leaf plot from Example 1 to list the data in in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438280"/>
            <a:ext cx="4572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36232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2438280"/>
            <a:ext cx="167652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   3  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 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267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4267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00400" y="5638680"/>
            <a:ext cx="2819520" cy="483840"/>
            <a:chOff x="3200400" y="5638680"/>
            <a:chExt cx="2819520" cy="483840"/>
          </a:xfrm>
        </p:grpSpPr>
        <p:sp>
          <p:nvSpPr>
            <p:cNvPr id="50" name=""/>
            <p:cNvSpPr/>
            <p:nvPr/>
          </p:nvSpPr>
          <p:spPr>
            <a:xfrm>
              <a:off x="3200400" y="5638680"/>
              <a:ext cx="28195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Key:  3   1 = 3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24280" y="5638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572000" y="2286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286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2286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8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5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5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a Stem-and-Leaf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Make an ordered stem-and-leaf plot for the data and use the result to list the data in in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429000"/>
            <a:ext cx="4572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526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429000"/>
            <a:ext cx="16765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2  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6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 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  8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352680" y="5334120"/>
            <a:ext cx="2819520" cy="483840"/>
            <a:chOff x="3352680" y="5334120"/>
            <a:chExt cx="2819520" cy="483840"/>
          </a:xfrm>
        </p:grpSpPr>
        <p:sp>
          <p:nvSpPr>
            <p:cNvPr id="71" name=""/>
            <p:cNvSpPr/>
            <p:nvPr/>
          </p:nvSpPr>
          <p:spPr>
            <a:xfrm>
              <a:off x="3352680" y="5334120"/>
              <a:ext cx="28195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Key:  3   1 = 3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76560" y="533412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6483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3429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429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3429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3429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3429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6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7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8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6    7    38    19    11    26    2    33    27    39  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143000"/>
            <a:ext cx="13716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914400"/>
            <a:ext cx="685800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, the sum of the numbers divided by the number of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514600"/>
            <a:ext cx="18288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2286000"/>
            <a:ext cx="640080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iddle number when the numbers are written in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886200"/>
            <a:ext cx="13716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657600"/>
            <a:ext cx="685800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umber that occurs the most frequ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a Stem-and-Leaf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Find the mean, median, and mode of the data in Exercis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2    2    7    11    16    19    26    27    33    38    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514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3048120"/>
          <a:ext cx="861048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8120"/>
                    <a:ext cx="86104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3520" y="2895480"/>
          <a:ext cx="8181720" cy="12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95480"/>
                    <a:ext cx="818172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4267080"/>
          <a:ext cx="118764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267080"/>
                    <a:ext cx="11876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14600" y="4648320"/>
          <a:ext cx="1447920" cy="69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4648320"/>
                    <a:ext cx="1447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a Stem-and-Leaf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Find the mean, median, and mode of the data in Exercis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2    2    7    11    16    19    26    27    33    38    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981080" y="2743200"/>
          <a:ext cx="14479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1447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33920" y="1905120"/>
            <a:ext cx="914400" cy="914400"/>
          </a:xfrm>
          <a:prstGeom prst="ellipse">
            <a:avLst/>
          </a:prstGeom>
          <a:noFill/>
          <a:ln w="442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01960" y="3886200"/>
          <a:ext cx="110016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960" y="3886200"/>
                    <a:ext cx="11001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11-11T14:58:58Z</dcterms:modified>
  <cp:revision>76</cp:revision>
  <dc:subject/>
  <dc:title>PowerPoint Presentation</dc:title>
</cp:coreProperties>
</file>